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15.wmf" ContentType="image/x-wmf"/>
  <Override PartName="/ppt/media/image7.png" ContentType="image/png"/>
  <Override PartName="/ppt/media/image32.png" ContentType="image/png"/>
  <Override PartName="/ppt/media/image12.png" ContentType="image/png"/>
  <Override PartName="/ppt/media/image13.wmf" ContentType="image/x-wmf"/>
  <Override PartName="/ppt/media/image8.jpeg" ContentType="image/jpeg"/>
  <Override PartName="/ppt/media/image29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3.wmf" ContentType="image/x-wmf"/>
  <Override PartName="/ppt/media/image2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17.png" ContentType="image/png"/>
  <Override PartName="/ppt/media/image20.wmf" ContentType="image/x-wmf"/>
  <Override PartName="/ppt/media/image19.png" ContentType="image/png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90A-F5C5-44F7-8877-C6623ABA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EBC-1538-4BC1-9BFA-2A940F69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B1D-FF26-4FA9-8AF9-7A966FC4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834-99B2-4D67-905F-FC49F3C2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803-302D-4146-A647-79BF735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328-3708-4E70-9A61-E9FE9B04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B2E-B73D-4B0A-BBE2-9FF9AA9C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64D-1B9D-4404-9DFD-09A9E1FE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950-9341-468B-B7FB-177BE1C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B5E-E5D3-4975-AE57-297809F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E67-7B32-461D-B661-C15FB58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101-A061-43FA-8552-EA12F66C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EB41-9E89-4073-A880-EDE9BC08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jpe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.wmf"/><Relationship Id="rId14" Type="http://schemas.openxmlformats.org/officeDocument/2006/relationships/image" Target="../media/image8.jpe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5.wmf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image" Target="../media/image1.wmf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0.wmf"/><Relationship Id="rId15" Type="http://schemas.openxmlformats.org/officeDocument/2006/relationships/image" Target="../media/image21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2.wmf"/><Relationship Id="rId18" Type="http://schemas.openxmlformats.org/officeDocument/2006/relationships/image" Target="../media/image23.png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2.wmf"/><Relationship Id="rId21" Type="http://schemas.openxmlformats.org/officeDocument/2006/relationships/image" Target="../media/image24.png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22.wmf"/><Relationship Id="rId24" Type="http://schemas.openxmlformats.org/officeDocument/2006/relationships/image" Target="../media/image1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oleObject" Target="../embeddings/oleObject8.bin"/><Relationship Id="rId28" Type="http://schemas.openxmlformats.org/officeDocument/2006/relationships/image" Target="../media/image27.wmf"/><Relationship Id="rId29" Type="http://schemas.openxmlformats.org/officeDocument/2006/relationships/image" Target="../media/image28.png"/><Relationship Id="rId30" Type="http://schemas.openxmlformats.org/officeDocument/2006/relationships/image" Target="../media/image11.png"/><Relationship Id="rId31" Type="http://schemas.openxmlformats.org/officeDocument/2006/relationships/oleObject" Target="../embeddings/oleObject9.bin"/><Relationship Id="rId32" Type="http://schemas.openxmlformats.org/officeDocument/2006/relationships/image" Target="../media/image16.wmf"/><Relationship Id="rId33" Type="http://schemas.openxmlformats.org/officeDocument/2006/relationships/image" Target="../media/image3.wmf"/><Relationship Id="rId34" Type="http://schemas.openxmlformats.org/officeDocument/2006/relationships/image" Target="../media/image2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.wmf"/><Relationship Id="rId6" Type="http://schemas.openxmlformats.org/officeDocument/2006/relationships/image" Target="../media/image17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image" Target="../media/image3.wmf"/><Relationship Id="rId10" Type="http://schemas.openxmlformats.org/officeDocument/2006/relationships/image" Target="../media/image2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.wmf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9.wmf"/><Relationship Id="rId16" Type="http://schemas.openxmlformats.org/officeDocument/2006/relationships/image" Target="../media/image14.png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22.wmf"/><Relationship Id="rId20" Type="http://schemas.openxmlformats.org/officeDocument/2006/relationships/image" Target="../media/image24.png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0.wmf"/><Relationship Id="rId23" Type="http://schemas.openxmlformats.org/officeDocument/2006/relationships/image" Target="../media/image23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image" Target="../media/image17.png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3.wmf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9.wmf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22.wmf"/><Relationship Id="rId17" Type="http://schemas.openxmlformats.org/officeDocument/2006/relationships/image" Target="../media/image19.png"/><Relationship Id="rId18" Type="http://schemas.openxmlformats.org/officeDocument/2006/relationships/image" Target="../media/image33.png"/><Relationship Id="rId19" Type="http://schemas.openxmlformats.org/officeDocument/2006/relationships/image" Target="../media/image32.png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30.wmf"/><Relationship Id="rId22" Type="http://schemas.openxmlformats.org/officeDocument/2006/relationships/image" Target="../media/image10.png"/><Relationship Id="rId23" Type="http://schemas.openxmlformats.org/officeDocument/2006/relationships/image" Target="../media/image18.png"/><Relationship Id="rId24" Type="http://schemas.openxmlformats.org/officeDocument/2006/relationships/image" Target="../media/image21.png"/><Relationship Id="rId25" Type="http://schemas.openxmlformats.org/officeDocument/2006/relationships/image" Target="../media/image14.png"/><Relationship Id="rId26" Type="http://schemas.openxmlformats.org/officeDocument/2006/relationships/image" Target="../media/image25.png"/><Relationship Id="rId27" Type="http://schemas.openxmlformats.org/officeDocument/2006/relationships/image" Target="../media/image28.png"/><Relationship Id="rId28" Type="http://schemas.openxmlformats.org/officeDocument/2006/relationships/image" Target="../media/image32.png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4419000">
            <a:off x="2240280" y="559440"/>
            <a:ext cx="3673440" cy="736452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364520"/>
              <a:gd name="textAreaBottom" fmla="*/ 7364880 h 7364520"/>
            </a:gdLst>
            <a:ahLst/>
            <a:rect l="textAreaLeft" t="textAreaTop" r="textAreaRight" b="textAreaBottom"/>
            <a:pathLst>
              <a:path w="21600" h="21600">
                <a:moveTo>
                  <a:pt x="6969" y="12023"/>
                </a:moveTo>
                <a:arcTo wR="-4021" hR="-4021" stAng="9737696" swAng="-12162809"/>
                <a:lnTo>
                  <a:pt x="2578" y="17802"/>
                </a:lnTo>
                <a:arcTo wR="10800" hR="10800" stAng="8374887" swAng="12162809"/>
                <a:lnTo>
                  <a:pt x="23661" y="6694"/>
                </a:lnTo>
                <a:lnTo>
                  <a:pt x="19711" y="14347"/>
                </a:lnTo>
                <a:lnTo>
                  <a:pt x="12058" y="10398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752720" cy="33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19280" y="3668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autami"/>
              </a:rPr>
              <a:t>Improving your identification technology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2760" y="1197000"/>
            <a:ext cx="55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autami"/>
              </a:rPr>
              <a:t>Fingerprint Identific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6960" y="189000"/>
            <a:ext cx="104940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102480" y="4221000"/>
            <a:ext cx="3278880" cy="2343240"/>
            <a:chOff x="3102480" y="4221000"/>
            <a:chExt cx="3278880" cy="2343240"/>
          </a:xfrm>
        </p:grpSpPr>
        <p:sp>
          <p:nvSpPr>
            <p:cNvPr id="48" name=""/>
            <p:cNvSpPr/>
            <p:nvPr/>
          </p:nvSpPr>
          <p:spPr>
            <a:xfrm>
              <a:off x="3102480" y="6044040"/>
              <a:ext cx="327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eating your solutions w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gerprint identification 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3695760" y="4221000"/>
            <a:ext cx="2119680" cy="1824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95760" y="4221000"/>
                      <a:ext cx="2119680" cy="182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1" name=""/>
          <p:cNvGrpSpPr/>
          <p:nvPr/>
        </p:nvGrpSpPr>
        <p:grpSpPr>
          <a:xfrm>
            <a:off x="4137840" y="1576440"/>
            <a:ext cx="2119320" cy="1710720"/>
            <a:chOff x="4137840" y="1576440"/>
            <a:chExt cx="2119320" cy="1710720"/>
          </a:xfrm>
        </p:grpSpPr>
        <p:graphicFrame>
          <p:nvGraphicFramePr>
            <p:cNvPr id="52" name=""/>
            <p:cNvGraphicFramePr/>
            <p:nvPr/>
          </p:nvGraphicFramePr>
          <p:xfrm>
            <a:off x="4389480" y="1576440"/>
            <a:ext cx="1495440" cy="1215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389480" y="1576440"/>
                      <a:ext cx="1495440" cy="121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4508640" y="1695240"/>
              <a:ext cx="12650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137840" y="2766960"/>
              <a:ext cx="21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s Own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007320" y="2362320"/>
            <a:ext cx="2421000" cy="1716840"/>
            <a:chOff x="6007320" y="2362320"/>
            <a:chExt cx="2421000" cy="1716840"/>
          </a:xfrm>
        </p:grpSpPr>
        <p:graphicFrame>
          <p:nvGraphicFramePr>
            <p:cNvPr id="57" name=""/>
            <p:cNvGraphicFramePr/>
            <p:nvPr/>
          </p:nvGraphicFramePr>
          <p:xfrm>
            <a:off x="6255000" y="2362320"/>
            <a:ext cx="1844640" cy="144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55000" y="2362320"/>
                      <a:ext cx="184464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6007320" y="3772080"/>
              <a:ext cx="24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rivers inspecting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6604200" y="2505240"/>
              <a:ext cx="119844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5940360" y="4365720"/>
            <a:ext cx="279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ber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/Financial Trans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906560" y="1784520"/>
            <a:ext cx="2308320" cy="1358640"/>
            <a:chOff x="1906560" y="1784520"/>
            <a:chExt cx="2308320" cy="1358640"/>
          </a:xfrm>
        </p:grpSpPr>
        <p:graphicFrame>
          <p:nvGraphicFramePr>
            <p:cNvPr id="63" name=""/>
            <p:cNvGraphicFramePr/>
            <p:nvPr/>
          </p:nvGraphicFramePr>
          <p:xfrm>
            <a:off x="2350440" y="1784520"/>
            <a:ext cx="1402200" cy="1074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350440" y="1784520"/>
                      <a:ext cx="1402200" cy="107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14"/>
            <a:stretch/>
          </p:blipFill>
          <p:spPr>
            <a:xfrm>
              <a:off x="2451240" y="1880640"/>
              <a:ext cx="120996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906560" y="2836080"/>
              <a:ext cx="23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-Attendance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69600" y="3255840"/>
            <a:ext cx="2251800" cy="1471320"/>
            <a:chOff x="669600" y="3255840"/>
            <a:chExt cx="2251800" cy="1471320"/>
          </a:xfrm>
        </p:grpSpPr>
        <p:graphicFrame>
          <p:nvGraphicFramePr>
            <p:cNvPr id="68" name=""/>
            <p:cNvGraphicFramePr/>
            <p:nvPr/>
          </p:nvGraphicFramePr>
          <p:xfrm>
            <a:off x="1150920" y="3255840"/>
            <a:ext cx="1263600" cy="971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50920" y="3255840"/>
                      <a:ext cx="126360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69600" y="4206960"/>
              <a:ext cx="225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ysical/Logical Acces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 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7"/>
            <a:srcRect l="9140" t="9144" r="17581" b="17617"/>
            <a:stretch/>
          </p:blipFill>
          <p:spPr>
            <a:xfrm>
              <a:off x="1251000" y="3343320"/>
              <a:ext cx="1079280" cy="81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4419000">
            <a:off x="2240280" y="559440"/>
            <a:ext cx="3673440" cy="736452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364520"/>
              <a:gd name="textAreaBottom" fmla="*/ 7364880 h 7364520"/>
            </a:gdLst>
            <a:ahLst/>
            <a:rect l="textAreaLeft" t="textAreaTop" r="textAreaRight" b="textAreaBottom"/>
            <a:pathLst>
              <a:path w="21600" h="21600">
                <a:moveTo>
                  <a:pt x="6969" y="12023"/>
                </a:moveTo>
                <a:arcTo wR="-4021" hR="-4021" stAng="9737696" swAng="-12162809"/>
                <a:lnTo>
                  <a:pt x="2578" y="17802"/>
                </a:lnTo>
                <a:arcTo wR="10800" hR="10800" stAng="8374887" swAng="12162809"/>
                <a:lnTo>
                  <a:pt x="23661" y="6694"/>
                </a:lnTo>
                <a:lnTo>
                  <a:pt x="19711" y="14347"/>
                </a:lnTo>
                <a:lnTo>
                  <a:pt x="12058" y="10398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752720" cy="3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19280" y="3668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autami"/>
              </a:rPr>
              <a:t>Improving your identification technology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2760" y="1197000"/>
            <a:ext cx="55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autami"/>
              </a:rPr>
              <a:t>Fingerprint Identific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6960" y="189000"/>
            <a:ext cx="104940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747720" y="1773360"/>
            <a:ext cx="93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ID WORKS Integrator 1 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ชุดประกอบด้ว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212120" y="2492280"/>
            <a:ext cx="1243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ID WORKS Integrator SDK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ู่มือการใช้งาน และตัวอย่าง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Sourc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เครื่องอ่านลายนิ้วมือ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Digital Persona U.are.U 4000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ท่นรองเครื่องอ่านลายนิ้วมือ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Acry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435640" y="4941720"/>
            <a:ext cx="1371600" cy="115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176560" y="4849920"/>
            <a:ext cx="1315800" cy="131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997440" y="501336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541440" y="1582560"/>
            <a:ext cx="4535280" cy="4773600"/>
            <a:chOff x="541440" y="1582560"/>
            <a:chExt cx="4535280" cy="4773600"/>
          </a:xfrm>
        </p:grpSpPr>
        <p:graphicFrame>
          <p:nvGraphicFramePr>
            <p:cNvPr id="84" name=""/>
            <p:cNvGraphicFramePr/>
            <p:nvPr/>
          </p:nvGraphicFramePr>
          <p:xfrm>
            <a:off x="541440" y="1800000"/>
            <a:ext cx="4535280" cy="455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440" y="1800000"/>
                      <a:ext cx="4535280" cy="45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1753200" y="1893600"/>
              <a:ext cx="275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3366ff"/>
                  </a:solidFill>
                  <a:uFillTx/>
                  <a:latin typeface="Arial"/>
                </a:rPr>
                <a:t>ID-WORKS Integ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826920" y="1582560"/>
              <a:ext cx="108108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5114880" y="1785960"/>
            <a:ext cx="3627720" cy="4556160"/>
            <a:chOff x="5114880" y="1785960"/>
            <a:chExt cx="3627720" cy="4556160"/>
          </a:xfrm>
        </p:grpSpPr>
        <p:graphicFrame>
          <p:nvGraphicFramePr>
            <p:cNvPr id="89" name=""/>
            <p:cNvGraphicFramePr/>
            <p:nvPr/>
          </p:nvGraphicFramePr>
          <p:xfrm>
            <a:off x="5114880" y="1785960"/>
            <a:ext cx="3513240" cy="4556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14880" y="1785960"/>
                      <a:ext cx="3513240" cy="45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5414760" y="1817640"/>
              <a:ext cx="33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 u="sng">
                  <a:solidFill>
                    <a:srgbClr val="ff0000"/>
                  </a:solidFill>
                  <a:uFillTx/>
                  <a:latin typeface="Arial"/>
                </a:rPr>
                <a:t>แอพพลิเคชั่นของคุ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2" name=""/>
          <p:cNvGraphicFramePr/>
          <p:nvPr/>
        </p:nvGraphicFramePr>
        <p:xfrm>
          <a:off x="6843600" y="3860640"/>
          <a:ext cx="63828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0" y="3860640"/>
                    <a:ext cx="638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1692360" y="836640"/>
            <a:ext cx="4752720" cy="33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19280" y="3668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autami"/>
              </a:rPr>
              <a:t>Enhancing your existing solution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2760" y="1197000"/>
            <a:ext cx="55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autami"/>
              </a:rPr>
              <a:t>Fingerprint Identific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128000" y="3664080"/>
            <a:ext cx="1512720" cy="1668600"/>
            <a:chOff x="7128000" y="3664080"/>
            <a:chExt cx="1512720" cy="1668600"/>
          </a:xfrm>
        </p:grpSpPr>
        <p:pic>
          <p:nvPicPr>
            <p:cNvPr id="98" name="" descr=""/>
            <p:cNvPicPr/>
            <p:nvPr/>
          </p:nvPicPr>
          <p:blipFill>
            <a:blip r:embed="rId9"/>
            <a:stretch/>
          </p:blipFill>
          <p:spPr>
            <a:xfrm>
              <a:off x="7453440" y="3664080"/>
              <a:ext cx="9363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28000" y="4508640"/>
              <a:ext cx="151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111111"/>
                  </a:solidFill>
                  <a:latin typeface="Microsoft Sans Serif"/>
                  <a:cs typeface="AngsanaUPC"/>
                </a:rPr>
                <a:t>ฐานข้อมูล</a:t>
              </a:r>
              <a:r>
                <a:rPr b="1" lang="en-US" sz="1600" spc="-1" strike="noStrike">
                  <a:solidFill>
                    <a:srgbClr val="111111"/>
                  </a:solidFill>
                  <a:latin typeface="Microsoft Sans Serif"/>
                  <a:ea typeface="AngsanaUPC"/>
                </a:rPr>
                <a:t>/</a:t>
              </a:r>
              <a:r>
                <a:rPr b="1" lang="th-TH" sz="1600" spc="-1" strike="noStrike">
                  <a:solidFill>
                    <a:srgbClr val="111111"/>
                  </a:solidFill>
                  <a:latin typeface="Microsoft Sans Serif"/>
                  <a:cs typeface="AngsanaUPC"/>
                </a:rPr>
                <a:t>ระบบจัดการฐานข้อมูลของคุ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08720" y="3500280"/>
            <a:ext cx="1439280" cy="1512720"/>
            <a:chOff x="5508720" y="3500280"/>
            <a:chExt cx="1439280" cy="1512720"/>
          </a:xfrm>
        </p:grpSpPr>
        <p:pic>
          <p:nvPicPr>
            <p:cNvPr id="101" name="" descr=""/>
            <p:cNvPicPr/>
            <p:nvPr/>
          </p:nvPicPr>
          <p:blipFill>
            <a:blip r:embed="rId10"/>
            <a:stretch/>
          </p:blipFill>
          <p:spPr>
            <a:xfrm>
              <a:off x="6440040" y="4586040"/>
              <a:ext cx="507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1"/>
            <a:stretch/>
          </p:blipFill>
          <p:spPr>
            <a:xfrm>
              <a:off x="5508720" y="3500280"/>
              <a:ext cx="1353600" cy="127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950760" y="2927520"/>
            <a:ext cx="1173240" cy="2210760"/>
            <a:chOff x="950760" y="2927520"/>
            <a:chExt cx="1173240" cy="2210760"/>
          </a:xfrm>
        </p:grpSpPr>
        <p:sp>
          <p:nvSpPr>
            <p:cNvPr id="104" name=""/>
            <p:cNvSpPr/>
            <p:nvPr/>
          </p:nvSpPr>
          <p:spPr>
            <a:xfrm>
              <a:off x="950760" y="3827520"/>
              <a:ext cx="1173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rial"/>
                  <a:cs typeface="AngsanaUPC"/>
                </a:rPr>
                <a:t>รายการลายนิ้วมือที่ถูกจัดเก็บบนหน่วยความจ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2"/>
            <a:stretch/>
          </p:blipFill>
          <p:spPr>
            <a:xfrm>
              <a:off x="1093680" y="2927520"/>
              <a:ext cx="885960" cy="88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5364000" y="4898880"/>
            <a:ext cx="2346480" cy="1284840"/>
            <a:chOff x="5364000" y="4898880"/>
            <a:chExt cx="2346480" cy="1284840"/>
          </a:xfrm>
        </p:grpSpPr>
        <p:graphicFrame>
          <p:nvGraphicFramePr>
            <p:cNvPr id="107" name=""/>
            <p:cNvGraphicFramePr/>
            <p:nvPr/>
          </p:nvGraphicFramePr>
          <p:xfrm>
            <a:off x="5364000" y="5084640"/>
            <a:ext cx="2303640" cy="936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64000" y="5084640"/>
                      <a:ext cx="2303640" cy="9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5538960" y="4898880"/>
              <a:ext cx="617400" cy="6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435640" y="5479920"/>
              <a:ext cx="227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หน้าจอค้นหาข้อมูลลายนิ้วมื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364000" y="2205000"/>
            <a:ext cx="2376720" cy="1315080"/>
            <a:chOff x="5364000" y="2205000"/>
            <a:chExt cx="2376720" cy="1315080"/>
          </a:xfrm>
        </p:grpSpPr>
        <p:graphicFrame>
          <p:nvGraphicFramePr>
            <p:cNvPr id="112" name=""/>
            <p:cNvGraphicFramePr/>
            <p:nvPr/>
          </p:nvGraphicFramePr>
          <p:xfrm>
            <a:off x="5364000" y="2421000"/>
            <a:ext cx="2303640" cy="9367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364000" y="2421000"/>
                      <a:ext cx="2303640" cy="9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4" name="" descr=""/>
            <p:cNvPicPr/>
            <p:nvPr/>
          </p:nvPicPr>
          <p:blipFill>
            <a:blip r:embed="rId18"/>
            <a:stretch/>
          </p:blipFill>
          <p:spPr>
            <a:xfrm>
              <a:off x="5508720" y="2205000"/>
              <a:ext cx="61740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08720" y="2816280"/>
              <a:ext cx="223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หน้าจอลงทะเบียนลายนิ้วมื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556000" y="2421000"/>
            <a:ext cx="2303280" cy="1800000"/>
            <a:chOff x="2556000" y="2421000"/>
            <a:chExt cx="2303280" cy="1800000"/>
          </a:xfrm>
        </p:grpSpPr>
        <p:graphicFrame>
          <p:nvGraphicFramePr>
            <p:cNvPr id="117" name=""/>
            <p:cNvGraphicFramePr/>
            <p:nvPr/>
          </p:nvGraphicFramePr>
          <p:xfrm>
            <a:off x="2556000" y="2421000"/>
            <a:ext cx="2303280" cy="1800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556000" y="2421000"/>
                      <a:ext cx="2303280" cy="18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2689200" y="3789360"/>
              <a:ext cx="210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ingerprint Enroll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1"/>
            <a:stretch/>
          </p:blipFill>
          <p:spPr>
            <a:xfrm>
              <a:off x="3195720" y="2638440"/>
              <a:ext cx="108900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2556000" y="4292640"/>
            <a:ext cx="2309760" cy="1800360"/>
            <a:chOff x="2556000" y="4292640"/>
            <a:chExt cx="2309760" cy="1800360"/>
          </a:xfrm>
        </p:grpSpPr>
        <p:graphicFrame>
          <p:nvGraphicFramePr>
            <p:cNvPr id="122" name=""/>
            <p:cNvGraphicFramePr/>
            <p:nvPr/>
          </p:nvGraphicFramePr>
          <p:xfrm>
            <a:off x="2556000" y="4292640"/>
            <a:ext cx="2303280" cy="180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556000" y="4292640"/>
                      <a:ext cx="2303280" cy="180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2584800" y="5640480"/>
              <a:ext cx="22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ingerprint Ident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4"/>
            <a:stretch/>
          </p:blipFill>
          <p:spPr>
            <a:xfrm>
              <a:off x="3059280" y="450864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5"/>
            <a:stretch/>
          </p:blipFill>
          <p:spPr>
            <a:xfrm>
              <a:off x="3738600" y="482760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" descr=""/>
          <p:cNvPicPr/>
          <p:nvPr/>
        </p:nvPicPr>
        <p:blipFill>
          <a:blip r:embed="rId26"/>
          <a:stretch/>
        </p:blipFill>
        <p:spPr>
          <a:xfrm>
            <a:off x="1979640" y="4363920"/>
            <a:ext cx="93672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643280" y="5156280"/>
          <a:ext cx="865440" cy="865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3280" y="5156280"/>
                    <a:ext cx="8654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29"/>
          <a:stretch/>
        </p:blipFill>
        <p:spPr>
          <a:xfrm>
            <a:off x="2124000" y="371628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61960" y="5187960"/>
            <a:ext cx="2047680" cy="1076400"/>
            <a:chOff x="561960" y="5187960"/>
            <a:chExt cx="2047680" cy="1076400"/>
          </a:xfrm>
        </p:grpSpPr>
        <p:pic>
          <p:nvPicPr>
            <p:cNvPr id="132" name="" descr=""/>
            <p:cNvPicPr/>
            <p:nvPr/>
          </p:nvPicPr>
          <p:blipFill>
            <a:blip r:embed="rId30"/>
            <a:stretch/>
          </p:blipFill>
          <p:spPr>
            <a:xfrm>
              <a:off x="755640" y="5187960"/>
              <a:ext cx="61740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1960" y="5805360"/>
              <a:ext cx="204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D-WOR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grator DLLs / Active 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4643280" y="2492280"/>
          <a:ext cx="865440" cy="865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643280" y="2492280"/>
                    <a:ext cx="8654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971320" y="2529000"/>
            <a:ext cx="25596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เก็บข้อมูลลายนิ้วมือลงฐานข้อมู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1160" y="5192640"/>
            <a:ext cx="29102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ดึงข้อมูลลายนิ้วมือเข้าสู่หน่วยความจ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4"/>
          <a:stretch/>
        </p:blipFill>
        <p:spPr>
          <a:xfrm>
            <a:off x="426960" y="189000"/>
            <a:ext cx="104940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5114880" y="1785960"/>
            <a:ext cx="3513240" cy="4556160"/>
            <a:chOff x="5114880" y="1785960"/>
            <a:chExt cx="3513240" cy="4556160"/>
          </a:xfrm>
        </p:grpSpPr>
        <p:graphicFrame>
          <p:nvGraphicFramePr>
            <p:cNvPr id="141" name=""/>
            <p:cNvGraphicFramePr/>
            <p:nvPr/>
          </p:nvGraphicFramePr>
          <p:xfrm>
            <a:off x="5114880" y="1785960"/>
            <a:ext cx="3513240" cy="455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14880" y="1785960"/>
                      <a:ext cx="3513240" cy="45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5199120" y="1817640"/>
              <a:ext cx="33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 u="sng">
                  <a:solidFill>
                    <a:srgbClr val="ff0000"/>
                  </a:solidFill>
                  <a:uFillTx/>
                  <a:latin typeface="Arial"/>
                </a:rPr>
                <a:t>แอพพลิเคชั่นของคุ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" name=""/>
          <p:cNvGraphicFramePr/>
          <p:nvPr/>
        </p:nvGraphicFramePr>
        <p:xfrm>
          <a:off x="6843600" y="4937040"/>
          <a:ext cx="6382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4937040"/>
                    <a:ext cx="638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692360" y="836640"/>
            <a:ext cx="4752720" cy="333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3668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autami"/>
              </a:rPr>
              <a:t>Enhancing your existing solution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52760" y="1197000"/>
            <a:ext cx="55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autami"/>
              </a:rPr>
              <a:t>Fingerprint Identific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128000" y="4740120"/>
            <a:ext cx="1512720" cy="1668600"/>
            <a:chOff x="7128000" y="4740120"/>
            <a:chExt cx="1512720" cy="1668600"/>
          </a:xfrm>
        </p:grpSpPr>
        <p:pic>
          <p:nvPicPr>
            <p:cNvPr id="150" name="" descr=""/>
            <p:cNvPicPr/>
            <p:nvPr/>
          </p:nvPicPr>
          <p:blipFill>
            <a:blip r:embed="rId6"/>
            <a:stretch/>
          </p:blipFill>
          <p:spPr>
            <a:xfrm>
              <a:off x="7453440" y="4740120"/>
              <a:ext cx="9363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128000" y="5584680"/>
              <a:ext cx="151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111111"/>
                  </a:solidFill>
                  <a:latin typeface="Microsoft Sans Serif"/>
                  <a:cs typeface="AngsanaUPC"/>
                </a:rPr>
                <a:t>ฐานข้อมูล</a:t>
              </a:r>
              <a:r>
                <a:rPr b="1" lang="en-US" sz="1600" spc="-1" strike="noStrike">
                  <a:solidFill>
                    <a:srgbClr val="111111"/>
                  </a:solidFill>
                  <a:latin typeface="Microsoft Sans Serif"/>
                  <a:ea typeface="AngsanaUPC"/>
                </a:rPr>
                <a:t>/</a:t>
              </a:r>
              <a:r>
                <a:rPr b="1" lang="th-TH" sz="1600" spc="-1" strike="noStrike">
                  <a:solidFill>
                    <a:srgbClr val="111111"/>
                  </a:solidFill>
                  <a:latin typeface="Microsoft Sans Serif"/>
                  <a:cs typeface="AngsanaUPC"/>
                </a:rPr>
                <a:t>ระบบจัดการฐานข้อมูลของคุ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508720" y="4576680"/>
            <a:ext cx="1439280" cy="1512720"/>
            <a:chOff x="5508720" y="4576680"/>
            <a:chExt cx="1439280" cy="1512720"/>
          </a:xfrm>
        </p:grpSpPr>
        <p:pic>
          <p:nvPicPr>
            <p:cNvPr id="153" name="" descr=""/>
            <p:cNvPicPr/>
            <p:nvPr/>
          </p:nvPicPr>
          <p:blipFill>
            <a:blip r:embed="rId7"/>
            <a:stretch/>
          </p:blipFill>
          <p:spPr>
            <a:xfrm>
              <a:off x="6440040" y="5662440"/>
              <a:ext cx="507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8"/>
            <a:stretch/>
          </p:blipFill>
          <p:spPr>
            <a:xfrm>
              <a:off x="5508720" y="4576680"/>
              <a:ext cx="1353600" cy="127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426960" y="189000"/>
            <a:ext cx="1049400" cy="1368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796000" y="4005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หน้าจอลงทะเบียนลายนิ้วมื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4160" y="3716280"/>
            <a:ext cx="505080" cy="1008000"/>
          </a:xfrm>
          <a:custGeom>
            <a:avLst/>
            <a:gdLst/>
            <a:ahLst/>
            <a:rect l="l" t="t" r="r" b="b"/>
            <a:pathLst>
              <a:path w="234" h="515">
                <a:moveTo>
                  <a:pt x="0" y="0"/>
                </a:moveTo>
                <a:lnTo>
                  <a:pt x="231" y="0"/>
                </a:lnTo>
                <a:lnTo>
                  <a:pt x="234" y="515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11280" y="1800360"/>
            <a:ext cx="3889440" cy="4556160"/>
            <a:chOff x="611280" y="1800360"/>
            <a:chExt cx="3889440" cy="4556160"/>
          </a:xfrm>
        </p:grpSpPr>
        <p:graphicFrame>
          <p:nvGraphicFramePr>
            <p:cNvPr id="160" name=""/>
            <p:cNvGraphicFramePr/>
            <p:nvPr/>
          </p:nvGraphicFramePr>
          <p:xfrm>
            <a:off x="684360" y="1800360"/>
            <a:ext cx="3816360" cy="4556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4360" y="1800360"/>
                      <a:ext cx="3816360" cy="45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1242000" y="1893960"/>
              <a:ext cx="275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3366ff"/>
                  </a:solidFill>
                  <a:uFillTx/>
                  <a:latin typeface="Arial"/>
                </a:rPr>
                <a:t>ID-WORKS Integ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3"/>
            <a:stretch/>
          </p:blipFill>
          <p:spPr>
            <a:xfrm>
              <a:off x="611280" y="1844640"/>
              <a:ext cx="617400" cy="61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5508720" y="2637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44000" y="3645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16000" y="5229360"/>
            <a:ext cx="2879640" cy="703080"/>
            <a:chOff x="1116000" y="5229360"/>
            <a:chExt cx="2879640" cy="703080"/>
          </a:xfrm>
        </p:grpSpPr>
        <p:grpSp>
          <p:nvGrpSpPr>
            <p:cNvPr id="167" name=""/>
            <p:cNvGrpSpPr/>
            <p:nvPr/>
          </p:nvGrpSpPr>
          <p:grpSpPr>
            <a:xfrm>
              <a:off x="1160640" y="5445000"/>
              <a:ext cx="2835000" cy="487440"/>
              <a:chOff x="1160640" y="5445000"/>
              <a:chExt cx="2835000" cy="487440"/>
            </a:xfrm>
          </p:grpSpPr>
          <p:graphicFrame>
            <p:nvGraphicFramePr>
              <p:cNvPr id="168" name=""/>
              <p:cNvGraphicFramePr/>
              <p:nvPr/>
            </p:nvGraphicFramePr>
            <p:xfrm>
              <a:off x="1160640" y="5445000"/>
              <a:ext cx="2835000" cy="4874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1160640" y="5445000"/>
                        <a:ext cx="2835000" cy="4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0" name=""/>
              <p:cNvSpPr/>
              <p:nvPr/>
            </p:nvSpPr>
            <p:spPr>
              <a:xfrm>
                <a:off x="1325520" y="5546520"/>
                <a:ext cx="249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Fingerprint Identif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116000" y="5229360"/>
              <a:ext cx="653760" cy="500040"/>
              <a:chOff x="1116000" y="5229360"/>
              <a:chExt cx="653760" cy="50004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16000" y="5229360"/>
                <a:ext cx="5720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91760" y="5372280"/>
                <a:ext cx="37800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4" name=""/>
          <p:cNvGrpSpPr/>
          <p:nvPr/>
        </p:nvGrpSpPr>
        <p:grpSpPr>
          <a:xfrm>
            <a:off x="1116000" y="2494080"/>
            <a:ext cx="2879640" cy="2735280"/>
            <a:chOff x="1116000" y="2494080"/>
            <a:chExt cx="2879640" cy="2735280"/>
          </a:xfrm>
        </p:grpSpPr>
        <p:graphicFrame>
          <p:nvGraphicFramePr>
            <p:cNvPr id="175" name=""/>
            <p:cNvGraphicFramePr/>
            <p:nvPr/>
          </p:nvGraphicFramePr>
          <p:xfrm>
            <a:off x="1116000" y="2494080"/>
            <a:ext cx="2879640" cy="27352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116000" y="2494080"/>
                      <a:ext cx="2879640" cy="27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"/>
            <p:cNvSpPr/>
            <p:nvPr/>
          </p:nvSpPr>
          <p:spPr>
            <a:xfrm>
              <a:off x="1336680" y="4797360"/>
              <a:ext cx="245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ingerprint Enroll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20"/>
          <a:stretch/>
        </p:blipFill>
        <p:spPr>
          <a:xfrm>
            <a:off x="1455840" y="2637000"/>
            <a:ext cx="2255760" cy="2087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5640" y="4076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708000" y="3068640"/>
            <a:ext cx="230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3716280"/>
            <a:ext cx="230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00720" y="2852640"/>
          <a:ext cx="336240" cy="1136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0720" y="2852640"/>
                    <a:ext cx="33624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4932360" y="2595600"/>
            <a:ext cx="617400" cy="617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4"/>
          <a:stretch/>
        </p:blipFill>
        <p:spPr>
          <a:xfrm>
            <a:off x="6012000" y="2349360"/>
            <a:ext cx="162720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3699000" y="3213000"/>
            <a:ext cx="647640" cy="790560"/>
            <a:chOff x="3699000" y="3213000"/>
            <a:chExt cx="647640" cy="790560"/>
          </a:xfrm>
        </p:grpSpPr>
        <p:sp>
          <p:nvSpPr>
            <p:cNvPr id="187" name=""/>
            <p:cNvSpPr/>
            <p:nvPr/>
          </p:nvSpPr>
          <p:spPr>
            <a:xfrm>
              <a:off x="3699000" y="3213000"/>
              <a:ext cx="64764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745080" y="3225600"/>
              <a:ext cx="576000" cy="739800"/>
              <a:chOff x="3745080" y="3225600"/>
              <a:chExt cx="576000" cy="739800"/>
            </a:xfrm>
          </p:grpSpPr>
          <p:pic>
            <p:nvPicPr>
              <p:cNvPr id="18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816360" y="3225600"/>
                <a:ext cx="405000" cy="7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3745080" y="3430440"/>
                <a:ext cx="576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Arial"/>
                  </a:rPr>
                  <a:t>C3 CA 30 F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Arial"/>
                  </a:rPr>
                  <a:t>00  00  4A 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8080"/>
                    </a:solidFill>
                    <a:latin typeface="Arial"/>
                  </a:rPr>
                  <a:t>36  FF  FF 3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0.31215 2.59259E-006 E">
                                      <p:cBhvr>
                                        <p:cTn id="7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215 2.59259E-006 L 0.44601 2.59259E-006 E">
                                      <p:cBhvr>
                                        <p:cTn id="95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01 2.59259E-006 L 0.44601 0.21528 E">
                                      <p:cBhvr>
                                        <p:cTn id="9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752720" cy="333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19280" y="3668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autami"/>
              </a:rPr>
              <a:t>Enhancing your existing solution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52760" y="1197000"/>
            <a:ext cx="55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autami"/>
              </a:rPr>
              <a:t>Fingerprint Identific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6960" y="189000"/>
            <a:ext cx="104940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5114880" y="1785960"/>
            <a:ext cx="3513240" cy="4556160"/>
            <a:chOff x="5114880" y="1785960"/>
            <a:chExt cx="3513240" cy="4556160"/>
          </a:xfrm>
        </p:grpSpPr>
        <p:graphicFrame>
          <p:nvGraphicFramePr>
            <p:cNvPr id="196" name=""/>
            <p:cNvGraphicFramePr/>
            <p:nvPr/>
          </p:nvGraphicFramePr>
          <p:xfrm>
            <a:off x="5114880" y="1785960"/>
            <a:ext cx="3513240" cy="455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4880" y="1785960"/>
                      <a:ext cx="3513240" cy="45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5199120" y="1817640"/>
              <a:ext cx="33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 u="sng">
                  <a:solidFill>
                    <a:srgbClr val="ff0000"/>
                  </a:solidFill>
                  <a:uFillTx/>
                  <a:latin typeface="Arial"/>
                </a:rPr>
                <a:t>แอพพลิเคชั่นของคุ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6843600" y="4937040"/>
          <a:ext cx="638280" cy="6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0" y="4937040"/>
                    <a:ext cx="638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7128000" y="4740120"/>
            <a:ext cx="1512720" cy="1668600"/>
            <a:chOff x="7128000" y="4740120"/>
            <a:chExt cx="1512720" cy="1668600"/>
          </a:xfrm>
        </p:grpSpPr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7453440" y="4740120"/>
              <a:ext cx="9363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128000" y="5584680"/>
              <a:ext cx="151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111111"/>
                  </a:solidFill>
                  <a:latin typeface="Microsoft Sans Serif"/>
                  <a:cs typeface="AngsanaUPC"/>
                </a:rPr>
                <a:t>ฐานข้อมูล</a:t>
              </a:r>
              <a:r>
                <a:rPr b="1" lang="en-US" sz="1600" spc="-1" strike="noStrike">
                  <a:solidFill>
                    <a:srgbClr val="111111"/>
                  </a:solidFill>
                  <a:latin typeface="Microsoft Sans Serif"/>
                  <a:ea typeface="AngsanaUPC"/>
                </a:rPr>
                <a:t>/</a:t>
              </a:r>
              <a:r>
                <a:rPr b="1" lang="th-TH" sz="1600" spc="-1" strike="noStrike">
                  <a:solidFill>
                    <a:srgbClr val="111111"/>
                  </a:solidFill>
                  <a:latin typeface="Microsoft Sans Serif"/>
                  <a:cs typeface="AngsanaUPC"/>
                </a:rPr>
                <a:t>ระบบจัดการฐานข้อมูลของคุ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796000" y="4005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หน้าจอค้นหาลายนิ้วมื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7005600" y="3658680"/>
            <a:ext cx="1757160" cy="433440"/>
          </a:xfrm>
          <a:custGeom>
            <a:avLst/>
            <a:gdLst/>
            <a:ahLst/>
            <a:rect l="l" t="t" r="r" b="b"/>
            <a:pathLst>
              <a:path w="314" h="716">
                <a:moveTo>
                  <a:pt x="0" y="716"/>
                </a:moveTo>
                <a:lnTo>
                  <a:pt x="314" y="716"/>
                </a:lnTo>
                <a:lnTo>
                  <a:pt x="314" y="0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1800360"/>
            <a:ext cx="3889440" cy="4556160"/>
            <a:chOff x="611280" y="1800360"/>
            <a:chExt cx="3889440" cy="4556160"/>
          </a:xfrm>
        </p:grpSpPr>
        <p:graphicFrame>
          <p:nvGraphicFramePr>
            <p:cNvPr id="208" name=""/>
            <p:cNvGraphicFramePr/>
            <p:nvPr/>
          </p:nvGraphicFramePr>
          <p:xfrm>
            <a:off x="684360" y="1800360"/>
            <a:ext cx="3816360" cy="455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4360" y="1800360"/>
                      <a:ext cx="3816360" cy="45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1242000" y="1893960"/>
              <a:ext cx="275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3366ff"/>
                  </a:solidFill>
                  <a:uFillTx/>
                  <a:latin typeface="Arial"/>
                </a:rPr>
                <a:t>ID-WORKS Integ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1"/>
            <a:stretch/>
          </p:blipFill>
          <p:spPr>
            <a:xfrm>
              <a:off x="611280" y="1844640"/>
              <a:ext cx="617400" cy="61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7910640" y="4508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85760" y="5322960"/>
            <a:ext cx="2903760" cy="554040"/>
            <a:chOff x="1085760" y="5322960"/>
            <a:chExt cx="2903760" cy="554040"/>
          </a:xfrm>
        </p:grpSpPr>
        <p:graphicFrame>
          <p:nvGraphicFramePr>
            <p:cNvPr id="214" name=""/>
            <p:cNvGraphicFramePr/>
            <p:nvPr/>
          </p:nvGraphicFramePr>
          <p:xfrm>
            <a:off x="1154160" y="5389560"/>
            <a:ext cx="2835360" cy="487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154160" y="5389560"/>
                      <a:ext cx="283536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357200" y="5511600"/>
              <a:ext cx="245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ingerprint Enroll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4"/>
            <a:stretch/>
          </p:blipFill>
          <p:spPr>
            <a:xfrm>
              <a:off x="1085760" y="5322960"/>
              <a:ext cx="461880" cy="426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8" name=""/>
          <p:cNvGraphicFramePr/>
          <p:nvPr/>
        </p:nvGraphicFramePr>
        <p:xfrm>
          <a:off x="1116000" y="2492280"/>
          <a:ext cx="2879640" cy="273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16000" y="2492280"/>
                    <a:ext cx="2879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332000" y="4724280"/>
            <a:ext cx="24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ingerprint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32000" y="2781360"/>
            <a:ext cx="1173240" cy="2210760"/>
            <a:chOff x="1332000" y="2781360"/>
            <a:chExt cx="1173240" cy="2210760"/>
          </a:xfrm>
        </p:grpSpPr>
        <p:sp>
          <p:nvSpPr>
            <p:cNvPr id="222" name=""/>
            <p:cNvSpPr/>
            <p:nvPr/>
          </p:nvSpPr>
          <p:spPr>
            <a:xfrm>
              <a:off x="1332000" y="3681360"/>
              <a:ext cx="1173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rial"/>
                  <a:cs typeface="AngsanaUPC"/>
                </a:rPr>
                <a:t>รายการลายนิ้วมือที่ถูกจัดเก็บบนหน่วยความจ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7"/>
            <a:stretch/>
          </p:blipFill>
          <p:spPr>
            <a:xfrm>
              <a:off x="1474920" y="2781360"/>
              <a:ext cx="885960" cy="88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" descr=""/>
          <p:cNvPicPr/>
          <p:nvPr/>
        </p:nvPicPr>
        <p:blipFill>
          <a:blip r:embed="rId18"/>
          <a:stretch/>
        </p:blipFill>
        <p:spPr>
          <a:xfrm>
            <a:off x="6012000" y="2565360"/>
            <a:ext cx="1655640" cy="1444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H="1">
            <a:off x="2268000" y="3068640"/>
            <a:ext cx="374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364000" y="2421000"/>
            <a:ext cx="433080" cy="606240"/>
            <a:chOff x="5364000" y="2421000"/>
            <a:chExt cx="433080" cy="606240"/>
          </a:xfrm>
        </p:grpSpPr>
        <p:sp>
          <p:nvSpPr>
            <p:cNvPr id="227" name=""/>
            <p:cNvSpPr/>
            <p:nvPr/>
          </p:nvSpPr>
          <p:spPr>
            <a:xfrm>
              <a:off x="5364000" y="2421000"/>
              <a:ext cx="4330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19"/>
            <a:stretch/>
          </p:blipFill>
          <p:spPr>
            <a:xfrm>
              <a:off x="5400360" y="2427120"/>
              <a:ext cx="3380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51120" y="2494080"/>
              <a:ext cx="314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8080"/>
                  </a:solidFill>
                  <a:latin typeface="Arial"/>
                </a:rPr>
                <a:t>C3 CA 30 F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8080"/>
                  </a:solidFill>
                  <a:latin typeface="Arial"/>
                </a:rPr>
                <a:t>00  00  4A 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292720" y="2997360"/>
            <a:ext cx="5745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0160" y="4005360"/>
            <a:ext cx="2949480" cy="1944720"/>
          </a:xfrm>
          <a:custGeom>
            <a:avLst/>
            <a:gdLst/>
            <a:ahLst/>
            <a:rect l="l" t="t" r="r" b="b"/>
            <a:pathLst>
              <a:path w="1769" h="876">
                <a:moveTo>
                  <a:pt x="1769" y="876"/>
                </a:moveTo>
                <a:lnTo>
                  <a:pt x="271" y="872"/>
                </a:lnTo>
                <a:lnTo>
                  <a:pt x="271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3789360"/>
            <a:ext cx="237672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00720" y="2852640"/>
          <a:ext cx="336240" cy="1136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00720" y="2852640"/>
                    <a:ext cx="33624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5508720" y="4576680"/>
            <a:ext cx="1439280" cy="1512720"/>
            <a:chOff x="5508720" y="4576680"/>
            <a:chExt cx="1439280" cy="1512720"/>
          </a:xfrm>
        </p:grpSpPr>
        <p:pic>
          <p:nvPicPr>
            <p:cNvPr id="236" name="" descr=""/>
            <p:cNvPicPr/>
            <p:nvPr/>
          </p:nvPicPr>
          <p:blipFill>
            <a:blip r:embed="rId22"/>
            <a:stretch/>
          </p:blipFill>
          <p:spPr>
            <a:xfrm>
              <a:off x="6440040" y="5662440"/>
              <a:ext cx="507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3"/>
            <a:stretch/>
          </p:blipFill>
          <p:spPr>
            <a:xfrm>
              <a:off x="5508720" y="4576680"/>
              <a:ext cx="1353600" cy="127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5219640" y="5759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4"/>
          <a:stretch/>
        </p:blipFill>
        <p:spPr>
          <a:xfrm>
            <a:off x="5867280" y="5516640"/>
            <a:ext cx="617760" cy="617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995640" y="3500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421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700360" y="3429000"/>
            <a:ext cx="1223280" cy="1007280"/>
            <a:chOff x="2700360" y="3429000"/>
            <a:chExt cx="1223280" cy="1007280"/>
          </a:xfrm>
        </p:grpSpPr>
        <p:pic>
          <p:nvPicPr>
            <p:cNvPr id="243" name="" descr=""/>
            <p:cNvPicPr/>
            <p:nvPr/>
          </p:nvPicPr>
          <p:blipFill>
            <a:blip r:embed="rId25"/>
            <a:stretch/>
          </p:blipFill>
          <p:spPr>
            <a:xfrm>
              <a:off x="2700360" y="3429000"/>
              <a:ext cx="1069920" cy="10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6"/>
            <a:stretch/>
          </p:blipFill>
          <p:spPr>
            <a:xfrm>
              <a:off x="3216600" y="3716640"/>
              <a:ext cx="70704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" descr=""/>
          <p:cNvPicPr/>
          <p:nvPr/>
        </p:nvPicPr>
        <p:blipFill>
          <a:blip r:embed="rId27"/>
          <a:stretch/>
        </p:blipFill>
        <p:spPr>
          <a:xfrm rot="20644800">
            <a:off x="2293560" y="3320640"/>
            <a:ext cx="719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7885080" y="4869000"/>
            <a:ext cx="433080" cy="606240"/>
            <a:chOff x="7885080" y="4869000"/>
            <a:chExt cx="433080" cy="606240"/>
          </a:xfrm>
        </p:grpSpPr>
        <p:sp>
          <p:nvSpPr>
            <p:cNvPr id="247" name=""/>
            <p:cNvSpPr/>
            <p:nvPr/>
          </p:nvSpPr>
          <p:spPr>
            <a:xfrm>
              <a:off x="7885080" y="4869000"/>
              <a:ext cx="4330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28"/>
            <a:stretch/>
          </p:blipFill>
          <p:spPr>
            <a:xfrm>
              <a:off x="7921440" y="4875120"/>
              <a:ext cx="3380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972200" y="4942080"/>
              <a:ext cx="314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8080"/>
                  </a:solidFill>
                  <a:latin typeface="Arial"/>
                </a:rPr>
                <a:t>C3 CA 30 F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8080"/>
                  </a:solidFill>
                  <a:latin typeface="Arial"/>
                </a:rPr>
                <a:t>00  00  4A 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987640" y="3645000"/>
            <a:ext cx="576360" cy="26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68480" y="3645000"/>
            <a:ext cx="792360" cy="26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81481E-006 L 0.00018 -0.3169 E">
                                      <p:cBhvr>
                                        <p:cTn id="12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3169 L -0.14166 -0.3169 E">
                                      <p:cBhvr>
                                        <p:cTn id="12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0.39375 -7.40741E-007 E">
                                      <p:cBhvr>
                                        <p:cTn id="14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0.39375 2.22222E-006 E">
                                      <p:cBhvr>
                                        <p:cTn id="15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L 0.39392 -2.96296E-006 E">
                                      <p:cBhvr>
                                        <p:cTn id="205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L 0.39392 -2.96296E-006 E">
                                      <p:cBhvr>
                                        <p:cTn id="22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752720" cy="333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619280" y="3668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autami"/>
              </a:rPr>
              <a:t>Implementing identification applicatio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52760" y="1197000"/>
            <a:ext cx="55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autami"/>
              </a:rPr>
              <a:t>Fingerprint Identific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26960" y="189000"/>
            <a:ext cx="1049400" cy="1368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58920" y="1868400"/>
            <a:ext cx="2879640" cy="105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ำหน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วิเคราะห์ระบบงาน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ะนำลายนิ้วมือเข้ามาใช้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46560" y="1844640"/>
            <a:ext cx="2881440" cy="105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อกแบบฐานข้อมู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ี่ใช้เก็บข้อมูลลายนิ้วม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46560" y="3460680"/>
            <a:ext cx="2880000" cy="10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ำหนดขั้นตอนใน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0000"/>
                </a:solidFill>
                <a:latin typeface="Arial"/>
              </a:rPr>
              <a:t>ที่ทำการลงทะเบียนลายนิ้วม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3460680"/>
            <a:ext cx="2879640" cy="10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ำหนดขั้นตอนใน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0000"/>
                </a:solidFill>
                <a:latin typeface="Arial"/>
              </a:rPr>
              <a:t>ที่ทำการค้นหาลายนิ้วม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38560" y="2419200"/>
            <a:ext cx="1008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2925720"/>
            <a:ext cx="0" cy="50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138560" y="4003560"/>
            <a:ext cx="1008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5045040"/>
            <a:ext cx="2879640" cy="10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พัฒนา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98920" y="4508640"/>
            <a:ext cx="0" cy="5029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6560" y="5045040"/>
            <a:ext cx="2880000" cy="10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ดสอบ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138560" y="5589720"/>
            <a:ext cx="1008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752720" cy="333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619280" y="3668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autami"/>
              </a:rPr>
              <a:t>Demonstrating to create sample applicatio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52760" y="1197000"/>
            <a:ext cx="55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autami"/>
              </a:rPr>
              <a:t>Fingerprint Identific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26960" y="189000"/>
            <a:ext cx="1049400" cy="136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19840" y="2960640"/>
            <a:ext cx="29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ngsana New"/>
              </a:rPr>
              <a:t>DEM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4:03:01Z</dcterms:created>
  <dc:creator>ACER</dc:creator>
  <dc:description/>
  <dc:language>en-US</dc:language>
  <cp:lastModifiedBy>Natavudh Pungcharoenpong</cp:lastModifiedBy>
  <dcterms:modified xsi:type="dcterms:W3CDTF">2006-09-21T09:55:49Z</dcterms:modified>
  <cp:revision>59</cp:revision>
  <dc:subject/>
  <dc:title>Slide 1</dc:title>
</cp:coreProperties>
</file>